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E89E-9624-4046-B295-8FAFC8A54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C775-5869-48BE-8E3C-06FD32ABC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7240"/>
            <a:ext cx="4572000" cy="3429000"/>
          </a:xfrm>
          <a:prstGeom prst="rect">
            <a:avLst/>
          </a:prstGeom>
          <a:ln w="0">
            <a:noFill/>
          </a:ln>
        </p:spPr>
      </p:sp>
      <p:sp>
        <p:nvSpPr>
          <p:cNvPr id="11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oris Yeltsin waves the Russian tricolor flag before a crowd of suppor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Czarek Sokolowski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DE88-3872-4B34-B5C4-1260C8F56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7240"/>
            <a:ext cx="4572000" cy="3429000"/>
          </a:xfrm>
          <a:prstGeom prst="rect">
            <a:avLst/>
          </a:prstGeom>
          <a:ln w="0">
            <a:noFill/>
          </a:ln>
        </p:spPr>
      </p:sp>
      <p:sp>
        <p:nvSpPr>
          <p:cNvPr id="14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The Lives of Others </a:t>
            </a:r>
            <a:r>
              <a:rPr b="1" lang="el-GR" sz="1200" spc="-1" strike="noStrike">
                <a:solidFill>
                  <a:srgbClr val="000000"/>
                </a:solidFill>
                <a:latin typeface="Arial"/>
                <a:ea typeface="Arial"/>
              </a:rPr>
              <a:t>(2006)</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eorg Dreyman (Sebastian Koch) examines his Stasi fi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C9BC-D813-4646-8676-16AE8D446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7240"/>
            <a:ext cx="4572000" cy="3429000"/>
          </a:xfrm>
          <a:prstGeom prst="rect">
            <a:avLst/>
          </a:prstGeom>
          <a:ln w="0">
            <a:noFill/>
          </a:ln>
        </p:spPr>
      </p:sp>
      <p:sp>
        <p:nvSpPr>
          <p:cNvPr id="149"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66E7-2342-41C9-844C-3ECD676AC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7240"/>
            <a:ext cx="4572000" cy="3429000"/>
          </a:xfrm>
          <a:prstGeom prst="rect">
            <a:avLst/>
          </a:prstGeom>
          <a:ln w="0">
            <a:noFill/>
          </a:ln>
        </p:spPr>
      </p:sp>
      <p:sp>
        <p:nvSpPr>
          <p:cNvPr id="15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30.3: European Union, 2007.</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eginning in 1967 as the European Economic Community, also known as the Common Market, the union of European states seeking to integrate their economies has gradually grown from six members to twenty-seven in 2007. By 2002, the European Union had achieved two major goals—the creation of a single internal market and a common currency—although it has been less successful at working toward common political and foreign policy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at additional nations do you think will eventually join the European Un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02F6-6D7D-4F1A-BA0D-319F4AAFE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7240"/>
            <a:ext cx="4572000" cy="3429000"/>
          </a:xfrm>
          <a:prstGeom prst="rect">
            <a:avLst/>
          </a:prstGeom>
          <a:ln w="0">
            <a:noFill/>
          </a:ln>
        </p:spPr>
      </p:sp>
      <p:sp>
        <p:nvSpPr>
          <p:cNvPr id="15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Quebe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03E2-5914-4F57-B2F5-E42516ADD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7240"/>
            <a:ext cx="4572000" cy="3429000"/>
          </a:xfrm>
          <a:prstGeom prst="rect">
            <a:avLst/>
          </a:prstGeom>
          <a:ln w="0">
            <a:noFill/>
          </a:ln>
        </p:spPr>
      </p:sp>
      <p:sp>
        <p:nvSpPr>
          <p:cNvPr id="15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Reagan and Gorbachev.</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willingness of Mikhail Gorbachev and Ronald Reagan to dampen the arms race was a significant factor in ending the Cold War confrontation between the United States and the Soviet Union. Reagan and Gorbachev are shown here standing before Saint Basil’s Cathedral during Reagan’s visit to Moscow in 198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Ira Schwartz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BDAD-84EC-4BEB-BE31-BC11F2C97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7240"/>
            <a:ext cx="4572000" cy="3429000"/>
          </a:xfrm>
          <a:prstGeom prst="rect">
            <a:avLst/>
          </a:prstGeom>
          <a:ln w="0">
            <a:noFill/>
          </a:ln>
        </p:spPr>
      </p:sp>
      <p:sp>
        <p:nvSpPr>
          <p:cNvPr id="16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rrorist Attack on the World Trade Center in New York Ci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 September 11, 2001, hijackers flew two commercial jetliners into the twin towers of the World Trade Center. Shown at the left are the two towers in the New York skyline before the attack. The middle picture shows the second of the two jetliners about to hit one of the towers while smoke billows from the site of the first attack. In the scene below, firefighters are making their way through what was left of the 110-story towers after the collap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Walker/Stone/Getty Imag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1EFD-4489-4392-B2C1-ACA41F38C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7240"/>
            <a:ext cx="4572000" cy="3429000"/>
          </a:xfrm>
          <a:prstGeom prst="rect">
            <a:avLst/>
          </a:prstGeom>
          <a:ln w="0">
            <a:noFill/>
          </a:ln>
        </p:spPr>
      </p:sp>
      <p:sp>
        <p:nvSpPr>
          <p:cNvPr id="16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rrorist Attack on the World Trade Center in New York Ci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 September 11, 2001, hijackers flew two commercial jetliners into the twin towers of the World Trade Center. Shown at the left are the two towers in the New York skyline before the attack. The middle picture shows the second of the two jetliners about to hit one of the towers while smoke billows from the site of the first attack. In the scene below, firefighters are making their way through what was left of the 110-story towers after the collap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Walker/Stone/Getty Imag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7DDF-A386-4DE9-8DDF-DA0CC3BE3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7240"/>
            <a:ext cx="4572000" cy="3429000"/>
          </a:xfrm>
          <a:prstGeom prst="rect">
            <a:avLst/>
          </a:prstGeom>
          <a:ln w="0">
            <a:noFill/>
          </a:ln>
        </p:spPr>
      </p:sp>
      <p:sp>
        <p:nvSpPr>
          <p:cNvPr id="16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rrorist Attack on the World Trade Center in New York Ci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 September 11, 2001, hijackers flew two commercial jetliners into the twin towers of the World Trade Center. Shown at the left are the two towers in the New York skyline before the attack. The middle picture shows the second of the two jetliners about to hit one of the towers while smoke billows from the site of the first attack. In the scene below, firefighters are making their way through what was left of the 110-story towers after the collap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Walker/Stone/Getty Imag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7000-BEA8-42C5-B08D-3C6043757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7240"/>
            <a:ext cx="4572000" cy="3429000"/>
          </a:xfrm>
          <a:prstGeom prst="rect">
            <a:avLst/>
          </a:prstGeom>
          <a:ln w="0">
            <a:noFill/>
          </a:ln>
        </p:spPr>
      </p:sp>
      <p:sp>
        <p:nvSpPr>
          <p:cNvPr id="17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n Antinuclear Protes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omen were active participants in the antinuclear movement of the 1980s. Shown here are some of the ten thousand antinuclear protesters who linked hands to form a human chain around the 9-mile perimeter of the U.S. Air Force base at Greenham Common, England, on December 13, 1982. They were protesting the planned siting of ninety</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six U.S. cruise missiles at the b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Dave Caulki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E4E2-0000-4DAC-B213-CD4440FA5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7240"/>
            <a:ext cx="4572000" cy="3429000"/>
          </a:xfrm>
          <a:prstGeom prst="rect">
            <a:avLst/>
          </a:prstGeom>
          <a:ln w="0">
            <a:noFill/>
          </a:ln>
        </p:spPr>
      </p:sp>
      <p:sp>
        <p:nvSpPr>
          <p:cNvPr id="17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Jean-Michel Basquiat, </a:t>
            </a:r>
            <a:r>
              <a:rPr b="1" i="1" lang="el-GR" sz="1200" spc="-1" strike="noStrike">
                <a:solidFill>
                  <a:srgbClr val="000000"/>
                </a:solidFill>
                <a:latin typeface="Arial"/>
                <a:ea typeface="Arial"/>
              </a:rPr>
              <a:t>Self Portrait, </a:t>
            </a:r>
            <a:r>
              <a:rPr b="1" lang="el-GR" sz="1200" spc="-1" strike="noStrike">
                <a:solidFill>
                  <a:srgbClr val="000000"/>
                </a:solidFill>
                <a:latin typeface="Arial"/>
                <a:ea typeface="Arial"/>
              </a:rPr>
              <a:t>1986.</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his paintings, Basquiat combined Abstract Expressionist brushwork with the popular culture of urban life. He dabbled with hip-hop and included references to comic book characters, jazz musicians, and sports heroes in his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The Estate of Jean-Michel Basquiat/ADAGP, Paris/ARS, New York//Banque d'Images, ADAGP/Art Resource, N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3F90-7EBF-4EE8-B796-E3F0730C7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7240"/>
            <a:ext cx="4572000" cy="3429000"/>
          </a:xfrm>
          <a:prstGeom prst="rect">
            <a:avLst/>
          </a:prstGeom>
          <a:ln w="0">
            <a:noFill/>
          </a:ln>
        </p:spPr>
      </p:sp>
      <p:sp>
        <p:nvSpPr>
          <p:cNvPr id="12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30.1: The New Europe.</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ombination of an inefficient economy and high military spending had led to stagnation in the Soviet Union by the early 1980s. Mikhail Gorbachev came to power in 1985, unleashing political, economic, and nationalist forces that led to independence for the former Soviet republics and also for Eastern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Compare this map with Map 28.1. What new countries had emerged by the early twenty-first cent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A4DA-34D2-4164-86D8-42672738A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7240"/>
            <a:ext cx="4572000" cy="3429000"/>
          </a:xfrm>
          <a:prstGeom prst="rect">
            <a:avLst/>
          </a:prstGeom>
          <a:ln w="0">
            <a:noFill/>
          </a:ln>
        </p:spPr>
      </p:sp>
      <p:sp>
        <p:nvSpPr>
          <p:cNvPr id="17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Bill Viola, </a:t>
            </a:r>
            <a:r>
              <a:rPr b="1" i="1" lang="el-GR" sz="1200" spc="-1" strike="noStrike">
                <a:solidFill>
                  <a:srgbClr val="000000"/>
                </a:solidFill>
                <a:latin typeface="Arial"/>
                <a:ea typeface="Arial"/>
              </a:rPr>
              <a:t>The Crossing, </a:t>
            </a:r>
            <a:r>
              <a:rPr b="1" lang="el-GR" sz="1200" spc="-1" strike="noStrike">
                <a:solidFill>
                  <a:srgbClr val="000000"/>
                </a:solidFill>
                <a:latin typeface="Arial"/>
                <a:ea typeface="Arial"/>
              </a:rPr>
              <a:t>1996.</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is video piece, Viola projected two films on each side of a 16-foot-high screen. On one side, a man is inundated with water, while on the other side, he is consumed by flames. The events occur in slow motion and, when experienced in conjunction with the sound of the deluge and/or flames, evoke feelings of spiritual regen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 Viola, The Crossing, 1996. Two synchronized NTSC color videos with dual-stereo-sound installation, continuous loop 192 x 440 x 684 inches (487.7 x 838.2 x 1737.4 cm) Solomon R. Guggenheim Museum (2000.61), New York. Gift, The Bohen Foundation, 2000. Photograph by Sally Ritts © The Solomon R. Guggenheim Foundation, New York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816F-0E81-4A69-8F7C-43FF0B966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7240"/>
            <a:ext cx="4572000" cy="3429000"/>
          </a:xfrm>
          <a:prstGeom prst="rect">
            <a:avLst/>
          </a:prstGeom>
          <a:ln w="0">
            <a:noFill/>
          </a:ln>
        </p:spPr>
      </p:sp>
      <p:sp>
        <p:nvSpPr>
          <p:cNvPr id="17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Arial"/>
                <a:ea typeface="Arial"/>
              </a:rPr>
              <a:t>Lord of the Rings.</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a:t>
            </a:r>
            <a:r>
              <a:rPr b="0" i="1" lang="el-GR" sz="1200" spc="-1" strike="noStrike">
                <a:solidFill>
                  <a:srgbClr val="000000"/>
                </a:solidFill>
                <a:latin typeface="Arial"/>
                <a:ea typeface="Arial"/>
              </a:rPr>
              <a:t>The Lord of the Rings, </a:t>
            </a:r>
            <a:r>
              <a:rPr b="0" lang="el-GR" sz="1200" spc="-1" strike="noStrike">
                <a:solidFill>
                  <a:srgbClr val="000000"/>
                </a:solidFill>
                <a:latin typeface="Arial"/>
                <a:ea typeface="Arial"/>
              </a:rPr>
              <a:t>British writer J. R. R. Tolkien created a fantasy world in Middle Earth that has enchanted readers for decades. Beginning in 2000, Tolkien’s work was brought to the screen in a series of three films. As seen in these stills from the studio that produced the films, computer graphics were used to create the special effects that re-created Tolkien’s fantasy wor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arner Brothers/Courtesy Everett Collec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5B7E-5713-4CBC-8ADE-D4DAFFC6F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7240"/>
            <a:ext cx="4572000" cy="3429000"/>
          </a:xfrm>
          <a:prstGeom prst="rect">
            <a:avLst/>
          </a:prstGeom>
          <a:ln w="0">
            <a:noFill/>
          </a:ln>
        </p:spPr>
      </p:sp>
      <p:sp>
        <p:nvSpPr>
          <p:cNvPr id="18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Earth.</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For many people in the West, as in the rest of the world, the view of the earth from outer space fostered an important sense of global unity. The American astronaut Russell Schweickart wrote, ‘‘From where you see it, the thing is a whole, and it is so beautiful.’’ In a similar reaction, Yuri Gagarin, the first Soviet cosmonaut, remarked, ‘‘What strikes me, is not only the beauty of the continents . . . but their closeness to one another . . . their essential un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ASA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AD51-A34C-4A20-BA62-BB9FB264D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3417-ADA6-4C82-8852-677C8892B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7240"/>
            <a:ext cx="4572000" cy="3429000"/>
          </a:xfrm>
          <a:prstGeom prst="rect">
            <a:avLst/>
          </a:prstGeom>
          <a:ln w="0">
            <a:noFill/>
          </a:ln>
        </p:spPr>
      </p:sp>
      <p:sp>
        <p:nvSpPr>
          <p:cNvPr id="12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Yeltsin Resists a Right-Wing Coup.</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August 1991, the attempt of right-wing plotters to overthrow Mikhail Gorbachev and seize power in the Soviet Union was thwarted by the efforts of Boris Yeltsin, president of the Russian Republic, and his supporters. Yeltsin (holding papers) is shown here atop a tank in front of the Russian parliament building in Moscow, urging the Russian people to resist the conspir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7F15-0ECE-4C10-B72E-382F65BB2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7240"/>
            <a:ext cx="4572000" cy="3429000"/>
          </a:xfrm>
          <a:prstGeom prst="rect">
            <a:avLst/>
          </a:prstGeom>
          <a:ln w="0">
            <a:noFill/>
          </a:ln>
        </p:spPr>
      </p:sp>
      <p:sp>
        <p:nvSpPr>
          <p:cNvPr id="12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echny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B1F4-B2B7-4725-AA4D-6E29CD971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 Romanian Revolutionar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revolt against Communist rule in Eastern Europe in 1989 came last to Romania. It was also more violent as the government at first tried to stem the revolt by massacring demonstrators. This picture shows a young Romanian rebel waving the national flag with the Communist emblem cut out of the center. He is on a balcony overlooking the tanks, soldiers, and citizens filling Palace Square in Buchare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er Turnley/CORB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719A-FD28-4F14-B3D5-F3FC6E7F8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7240"/>
            <a:ext cx="4572000" cy="3429000"/>
          </a:xfrm>
          <a:prstGeom prst="rect">
            <a:avLst/>
          </a:prstGeom>
          <a:ln w="0">
            <a:noFill/>
          </a:ln>
        </p:spPr>
      </p:sp>
      <p:sp>
        <p:nvSpPr>
          <p:cNvPr id="13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nd the Wall Came Tumbling Dow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Berlin Wall, long a symbol of Europe’s Cold War divisions, became the site of massive celebrations after the East German government opened its border with the West. The activities include spontaneous acts of demolition as Germans used sledgehammers and crowbars to tear down parts of the wall. In this photograph, a demonstrator pounds away at the Berlin Wall as East German border guards observe from ab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uters (David Brauchli)/CORBI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5203-73E6-4AE0-AB8C-3849BAC95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7240"/>
            <a:ext cx="4572000" cy="3429000"/>
          </a:xfrm>
          <a:prstGeom prst="rect">
            <a:avLst/>
          </a:prstGeom>
          <a:ln w="0">
            <a:noFill/>
          </a:ln>
        </p:spPr>
      </p:sp>
      <p:sp>
        <p:nvSpPr>
          <p:cNvPr id="137"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6A32-1797-404E-BD3D-A2E6A76DE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7240"/>
            <a:ext cx="4572000" cy="3429000"/>
          </a:xfrm>
          <a:prstGeom prst="rect">
            <a:avLst/>
          </a:prstGeom>
          <a:ln w="0">
            <a:noFill/>
          </a:ln>
        </p:spPr>
      </p:sp>
      <p:sp>
        <p:nvSpPr>
          <p:cNvPr id="14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War in Bosni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y mid-1993, irregular Serb forces had overrun much of Bosnia-Herzegovina amid scenes of untold suffering. This photograph shows a woman running past the bodies of victims of a mortar attack on Sarajevo on August 21, 1992. Three mortar rounds landed, killing at least thre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Rikard Larma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38BD-D7AD-461B-B0BE-3756CA99A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7240"/>
            <a:ext cx="4572000" cy="3429000"/>
          </a:xfrm>
          <a:prstGeom prst="rect">
            <a:avLst/>
          </a:prstGeom>
          <a:ln w="0">
            <a:noFill/>
          </a:ln>
        </p:spPr>
      </p:sp>
      <p:sp>
        <p:nvSpPr>
          <p:cNvPr id="1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30.2: The Lands of the Former Yugoslavia, 1995.</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y 1991, resurgent nationalism and the European independence wave overcame the forces that held Yugoslavia together. Independence declarations by Slovenia, Croatia, and Bosnia-Herzegovina brought war with the Serbian-dominated rump Yugoslavia of Slobodan Milo</a:t>
            </a:r>
            <a:r>
              <a:rPr b="0" lang="en-US" sz="1200" spc="-1" strike="noStrike">
                <a:solidFill>
                  <a:srgbClr val="000000"/>
                </a:solidFill>
                <a:latin typeface="Arial"/>
                <a:ea typeface="Arial"/>
              </a:rPr>
              <a:t>š</a:t>
            </a:r>
            <a:r>
              <a:rPr b="0" lang="el-GR" sz="1200" spc="-1" strike="noStrike">
                <a:solidFill>
                  <a:srgbClr val="000000"/>
                </a:solidFill>
                <a:latin typeface="Arial"/>
                <a:ea typeface="Arial"/>
              </a:rPr>
              <a:t>evi</a:t>
            </a:r>
            <a:r>
              <a:rPr b="0" lang="en-US" sz="1200" spc="-1" strike="noStrike">
                <a:solidFill>
                  <a:srgbClr val="000000"/>
                </a:solidFill>
                <a:latin typeface="Arial"/>
                <a:ea typeface="Arial"/>
              </a:rPr>
              <a:t>ć</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at aspects of Slovenia’s location help explain why its war of liberation was briefer and less bloody than others in the former Yugoslav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56BD7-4DE1-4E57-A705-F6A77113E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7D834-5BCF-4039-82DE-8C06339D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AC77E-C1B2-4424-88C2-70EF28E06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698CC-0BE7-423B-868D-92D4C860F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856B-1292-4257-9073-2D94C066D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5703E-04D5-4791-B6F5-119A493C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50D1-0ED7-4547-A4A6-7615D9B05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3C25-B3EE-49AA-BEDF-07B104D3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D32B-D883-4C16-984D-A2039F5D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4FF1-08C4-4D82-856F-82AF2C5D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BB38-97FA-4D91-8442-C0AAF4AA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1784-B8E9-426E-88A2-6ADE07C0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899E-843A-4250-A950-4C98C1CDA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1" descr="30CO"/>
          <p:cNvPicPr/>
          <p:nvPr/>
        </p:nvPicPr>
        <p:blipFill>
          <a:blip r:embed="rId1"/>
          <a:stretch/>
        </p:blipFill>
        <p:spPr>
          <a:xfrm>
            <a:off x="1673280" y="165240"/>
            <a:ext cx="579744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30-CO, p. 9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1" descr="30p946"/>
          <p:cNvPicPr/>
          <p:nvPr/>
        </p:nvPicPr>
        <p:blipFill>
          <a:blip r:embed="rId1"/>
          <a:stretch/>
        </p:blipFill>
        <p:spPr>
          <a:xfrm>
            <a:off x="88920" y="712800"/>
            <a:ext cx="8964720" cy="54324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1" descr="30p947"/>
          <p:cNvPicPr/>
          <p:nvPr/>
        </p:nvPicPr>
        <p:blipFill>
          <a:blip r:embed="rId1"/>
          <a:stretch/>
        </p:blipFill>
        <p:spPr>
          <a:xfrm>
            <a:off x="1450800" y="76320"/>
            <a:ext cx="624240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1" descr="30M03"/>
          <p:cNvPicPr/>
          <p:nvPr/>
        </p:nvPicPr>
        <p:blipFill>
          <a:blip r:embed="rId1"/>
          <a:stretch/>
        </p:blipFill>
        <p:spPr>
          <a:xfrm>
            <a:off x="88920" y="361800"/>
            <a:ext cx="8964720" cy="61326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3"/>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30-3, p. 9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1" descr="30p949"/>
          <p:cNvPicPr/>
          <p:nvPr/>
        </p:nvPicPr>
        <p:blipFill>
          <a:blip r:embed="rId1"/>
          <a:stretch/>
        </p:blipFill>
        <p:spPr>
          <a:xfrm>
            <a:off x="654120" y="74520"/>
            <a:ext cx="7835760" cy="6707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1" descr="30p950"/>
          <p:cNvPicPr/>
          <p:nvPr/>
        </p:nvPicPr>
        <p:blipFill>
          <a:blip r:embed="rId1"/>
          <a:stretch/>
        </p:blipFill>
        <p:spPr>
          <a:xfrm>
            <a:off x="2397240" y="76320"/>
            <a:ext cx="434808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1" descr="30p952a"/>
          <p:cNvPicPr/>
          <p:nvPr/>
        </p:nvPicPr>
        <p:blipFill>
          <a:blip r:embed="rId1"/>
          <a:stretch/>
        </p:blipFill>
        <p:spPr>
          <a:xfrm>
            <a:off x="1901880" y="76320"/>
            <a:ext cx="5338800" cy="670536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1" descr="30p952b"/>
          <p:cNvPicPr/>
          <p:nvPr/>
        </p:nvPicPr>
        <p:blipFill>
          <a:blip r:embed="rId1"/>
          <a:stretch/>
        </p:blipFill>
        <p:spPr>
          <a:xfrm>
            <a:off x="1550880" y="76320"/>
            <a:ext cx="6040440" cy="67053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1" descr="30p952c"/>
          <p:cNvPicPr/>
          <p:nvPr/>
        </p:nvPicPr>
        <p:blipFill>
          <a:blip r:embed="rId1"/>
          <a:stretch/>
        </p:blipFill>
        <p:spPr>
          <a:xfrm>
            <a:off x="88920" y="398520"/>
            <a:ext cx="8964720" cy="60595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1" descr="30p954"/>
          <p:cNvPicPr/>
          <p:nvPr/>
        </p:nvPicPr>
        <p:blipFill>
          <a:blip r:embed="rId1"/>
          <a:stretch/>
        </p:blipFill>
        <p:spPr>
          <a:xfrm>
            <a:off x="88920" y="290520"/>
            <a:ext cx="8964720" cy="62755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1" descr="30p958"/>
          <p:cNvPicPr/>
          <p:nvPr/>
        </p:nvPicPr>
        <p:blipFill>
          <a:blip r:embed="rId1"/>
          <a:stretch/>
        </p:blipFill>
        <p:spPr>
          <a:xfrm>
            <a:off x="88920" y="260280"/>
            <a:ext cx="8964720" cy="63374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1" descr="30M01"/>
          <p:cNvPicPr/>
          <p:nvPr/>
        </p:nvPicPr>
        <p:blipFill>
          <a:blip r:embed="rId1"/>
          <a:stretch/>
        </p:blipFill>
        <p:spPr>
          <a:xfrm>
            <a:off x="88920" y="358920"/>
            <a:ext cx="8964720" cy="6140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3"/>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30-1, p. 93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1" descr="30p959"/>
          <p:cNvPicPr/>
          <p:nvPr/>
        </p:nvPicPr>
        <p:blipFill>
          <a:blip r:embed="rId1"/>
          <a:stretch/>
        </p:blipFill>
        <p:spPr>
          <a:xfrm>
            <a:off x="2305080" y="76320"/>
            <a:ext cx="4532400" cy="670536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1" descr="30p960"/>
          <p:cNvPicPr/>
          <p:nvPr/>
        </p:nvPicPr>
        <p:blipFill>
          <a:blip r:embed="rId1"/>
          <a:stretch/>
        </p:blipFill>
        <p:spPr>
          <a:xfrm>
            <a:off x="2747880" y="76320"/>
            <a:ext cx="3646440" cy="670536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6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1" descr="30p961"/>
          <p:cNvPicPr/>
          <p:nvPr/>
        </p:nvPicPr>
        <p:blipFill>
          <a:blip r:embed="rId1"/>
          <a:stretch/>
        </p:blipFill>
        <p:spPr>
          <a:xfrm>
            <a:off x="995400" y="76320"/>
            <a:ext cx="7153200" cy="67053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6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1" descr="30p964"/>
          <p:cNvPicPr/>
          <p:nvPr/>
        </p:nvPicPr>
        <p:blipFill>
          <a:blip r:embed="rId1"/>
          <a:stretch/>
        </p:blipFill>
        <p:spPr>
          <a:xfrm>
            <a:off x="979560" y="165240"/>
            <a:ext cx="7184880" cy="650376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Rectangle 3"/>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1" descr="30p939a"/>
          <p:cNvPicPr/>
          <p:nvPr/>
        </p:nvPicPr>
        <p:blipFill>
          <a:blip r:embed="rId1"/>
          <a:stretch/>
        </p:blipFill>
        <p:spPr>
          <a:xfrm>
            <a:off x="374760" y="165240"/>
            <a:ext cx="8393040" cy="6503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1" descr="30p939b"/>
          <p:cNvPicPr/>
          <p:nvPr/>
        </p:nvPicPr>
        <p:blipFill>
          <a:blip r:embed="rId1"/>
          <a:stretch/>
        </p:blipFill>
        <p:spPr>
          <a:xfrm>
            <a:off x="1311120" y="74520"/>
            <a:ext cx="6521760" cy="67071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1" descr="30p940"/>
          <p:cNvPicPr/>
          <p:nvPr/>
        </p:nvPicPr>
        <p:blipFill>
          <a:blip r:embed="rId1"/>
          <a:stretch/>
        </p:blipFill>
        <p:spPr>
          <a:xfrm>
            <a:off x="88920" y="366840"/>
            <a:ext cx="8964720" cy="612288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1" descr="30p942a"/>
          <p:cNvPicPr/>
          <p:nvPr/>
        </p:nvPicPr>
        <p:blipFill>
          <a:blip r:embed="rId1"/>
          <a:stretch/>
        </p:blipFill>
        <p:spPr>
          <a:xfrm>
            <a:off x="2287440" y="76320"/>
            <a:ext cx="4567320" cy="6705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1" descr="30p942b"/>
          <p:cNvPicPr/>
          <p:nvPr/>
        </p:nvPicPr>
        <p:blipFill>
          <a:blip r:embed="rId1"/>
          <a:stretch/>
        </p:blipFill>
        <p:spPr>
          <a:xfrm>
            <a:off x="1981080" y="76320"/>
            <a:ext cx="5180040" cy="670536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1" descr="30p944"/>
          <p:cNvPicPr/>
          <p:nvPr/>
        </p:nvPicPr>
        <p:blipFill>
          <a:blip r:embed="rId1"/>
          <a:stretch/>
        </p:blipFill>
        <p:spPr>
          <a:xfrm>
            <a:off x="88920" y="846000"/>
            <a:ext cx="8964720" cy="51642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1" descr="30M02"/>
          <p:cNvPicPr/>
          <p:nvPr/>
        </p:nvPicPr>
        <p:blipFill>
          <a:blip r:embed="rId1"/>
          <a:stretch/>
        </p:blipFill>
        <p:spPr>
          <a:xfrm>
            <a:off x="1074600" y="76320"/>
            <a:ext cx="6994800" cy="670536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30-2, p. 94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07:26Z</dcterms:created>
  <dc:creator>Andrew Levine</dc:creator>
  <dc:description/>
  <dc:language>en-US</dc:language>
  <cp:lastModifiedBy>Local User</cp:lastModifiedBy>
  <dcterms:modified xsi:type="dcterms:W3CDTF">2013-04-23T11:04:20Z</dcterms:modified>
  <cp:revision>6</cp:revision>
  <dc:subject/>
  <dc:title>Slide 1</dc:title>
</cp:coreProperties>
</file>